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1BA-672C-473D-B707-C2F97B6B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B4E-DFA2-4E49-B3AA-06EA09B0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1E2-5DF4-4ADE-9C3C-3BC48079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A21-8AF1-489F-9635-123F87E2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DC1-AFE9-4B88-96E4-1B97F088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9EA-EA9B-4A1A-B465-339C3D62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520-043F-4863-A587-24AC818F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AD4-EB2A-4AE8-94E3-FBF16C05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EE9-309E-4AF0-9AD0-CF57D0C4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9EA-5A62-4A09-AA19-3EFADED4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435-157F-4307-A962-F4F75B9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3C3-7311-42F9-8776-5D9641A2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0E25-693B-47E6-B61E-1BD57554D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eight VS Weight</a:t>
            </a:r>
            <a:r>
              <a:rPr b="0" lang="en-US" sz="4400" spc="-1" strike="noStrike">
                <a:solidFill>
                  <a:srgbClr val="ffff99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risten Vag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oncl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 got everyone that I wanted to test done and recorded all of their data. I’ve also got all research done and work cited fin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robl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es Height have an effect on how much you are able to lift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ypothesi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 believe that the taller people will be able to lift more than the short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ackground In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real life taller guys are built stronger than smaller shorter guys in some cases. Shorter guys are known to have great muscle mass and can out lift bigger guys. I still believe that the taller guys will lift more than the shorter ones in the Junior High leve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ateria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per &amp; 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3 short guys: Clayton, Erik,  Tris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3 tall guys: Zane, Brayden, Trist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nch P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ather People and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st peo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cord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raph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es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Bench Press: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Tall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Sh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Zane- 135                5’10”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rik- 140               5’6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ristin- 115             5’9”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ayton- 65           5’5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rayden- 105          5’11”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risten- 105          5’7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ime Sp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’ve spent about two hours to test people and a day to work on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ossible Clause of Err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ome people might of not of been feeling good one day or were sore or growing pa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4:50:12Z</dcterms:created>
  <dc:creator>USD376</dc:creator>
  <dc:description/>
  <dc:language>en-US</dc:language>
  <cp:lastModifiedBy>USD376</cp:lastModifiedBy>
  <dcterms:modified xsi:type="dcterms:W3CDTF">2012-03-19T14:58:53Z</dcterms:modified>
  <cp:revision>2</cp:revision>
  <dc:subject/>
  <dc:title>Height VS Weight </dc:title>
</cp:coreProperties>
</file>